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6362-F8BB-4FA8-BB97-D9BF7D39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F7D7-42C0-4DA6-AECE-6427AEC6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9ED5-1854-4E2A-BD84-F42168BF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5AC-BAE5-468B-A6A8-1856FD74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EDD8-34BA-4D4E-AD3E-53D6738F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08F3-0B4D-44A3-B265-867348DF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3252-96E0-48A0-B625-7A8C480B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66B-DF1A-4523-B33B-BA789AC7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357D-7437-4DCF-B2C7-8DA7FE2E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18A1-39AA-4D82-9FCB-0909A0A4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2738-1400-4C62-8529-11D400CD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B04-5D2F-418C-8C9F-15324160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2A03-0225-4D09-A33D-F2FD084A52D0}" type="slidenum"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57240">
            <a:solidFill>
              <a:srgbClr val="f8f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ff"/>
                </a:solidFill>
                <a:latin typeface="Times New Roman"/>
              </a:rPr>
              <a:t>CVI and Autis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00000" y="3860280"/>
            <a:ext cx="80661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w to see the difference between these tw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Lea Hyvärinen, MD, PhD, FA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rofessor h.c., Rehabilitation Sciences, Technical University of Dortm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enior Lecturer, Developmental Neuropsychology, University of Helsink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imes New Roman"/>
              </a:rPr>
              <a:t>WCOP Conference in Milan September 20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nfusing behaviou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4920" y="19810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utistic children use strategies that are common in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blin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hildren and children who have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mpaired vision due to localized brain damag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n recognition functions of the inferotemporal lobe, like face blindness or problems in awareness of space and directions or distances but function in other vision related functions normally.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hus it is difficult to see a child using typical strategies of blind when the child “apparently is sighted”.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ach child with “autistic behaviours” should have  an assessment of visual functioning, a thorough evalua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fi-FI" sz="4000" spc="-1" strike="noStrike">
                <a:solidFill>
                  <a:srgbClr val="ffffff"/>
                </a:solidFill>
                <a:latin typeface="Times New Roman"/>
              </a:rPr>
              <a:t>Typical</a:t>
            </a:r>
            <a:r>
              <a:rPr b="0" lang="fi-FI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4000" spc="-1" strike="noStrike">
                <a:solidFill>
                  <a:srgbClr val="ffffff"/>
                </a:solidFill>
                <a:latin typeface="Times New Roman"/>
              </a:rPr>
              <a:t>behaviours</a:t>
            </a:r>
            <a:br>
              <a:rPr sz="2400"/>
            </a:b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                    in Autism          and           in C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920" y="1981080"/>
            <a:ext cx="66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airment in social inte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imited use of non-verb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munication such as eye gaz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ial expressions and ges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ifficulties with social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motional responsive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ifficulties forming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ing friendsh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39896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4" marL="139896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4461840" y="2575080"/>
            <a:ext cx="495144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Face blind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Poor perception of facial</a:t>
            </a: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expressions, i.e.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perceive, see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vis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communic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Looking through” per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due to poor accommoda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blurred image &gt;&gt; looking p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hildren with CVI are often left alone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because their communication is  mis-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understood.- Dark glasses may make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m better accepted as impair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Times New Roman"/>
              </a:rPr>
              <a:t>Typical behaviours</a:t>
            </a:r>
            <a:r>
              <a:rPr b="0" lang="fi-FI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   in Autism           and         in C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4560" y="1988640"/>
            <a:ext cx="453708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ereotyped and repetit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ody movements; mouthing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ereotype tactile explo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dherence to non-function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outines such as insisting 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raveling the same route h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ach d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3989160" y="2441520"/>
            <a:ext cx="55396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Children use </a:t>
            </a: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auditory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to support their poor vis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Auditory and tactile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need to be repeated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before cl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specific features are memoriz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   ”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Techniques of the blind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If a child does not have </a:t>
            </a: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ma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based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orientation and </a:t>
            </a: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recogni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of landmarks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is difficult, he ne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numerous repetitions to learn 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remember landmarks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711520" y="1916280"/>
            <a:ext cx="30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petitive activit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Times New Roman"/>
              </a:rPr>
              <a:t>Typical behaviours</a:t>
            </a:r>
            <a:br>
              <a:rPr sz="2400"/>
            </a:b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in Autism   and    in C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440" y="2628720"/>
            <a:ext cx="8278920" cy="19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Hypersensitivity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nhibitory functions have 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environmental noise,               developed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, children need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uditory, visual, tactile.             quiet environment to be 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o concentrate on their task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isual noise in classrooms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isturbs all childr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Times New Roman"/>
              </a:rPr>
              <a:t>Typical behaviours</a:t>
            </a:r>
            <a:br>
              <a:rPr sz="2400"/>
            </a:b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in Autism   and    in C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2628720"/>
            <a:ext cx="8278920" cy="19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Hypersensitivity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nhibitory functions have 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-188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environmental noise,           developed normally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-188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uditory, visual, tactile.         with weak inhibitory systems n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-188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iet environment to be abl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-188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ncentrate on their task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-188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-188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ach infant/child with autistic-like behaviours should be thoroughly assessed for an atypical development of visual functioning that might explain some of the behaviou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Times New Roman"/>
              </a:rPr>
              <a:t>Environmental disturbance</a:t>
            </a: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loss of balance due to weak inhibitory system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138240" y="5867280"/>
            <a:ext cx="894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his child who falls from her chair and then falls again, had been falling during the school da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for up to 20 times a day. Yet it had not been rported to the parents because it was taken as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ehaviour to get attention. Noise, visual or auditive, may cause even an epileptic seiz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Falling.wmv" descr=""/>
          <p:cNvPicPr/>
          <p:nvPr/>
        </p:nvPicPr>
        <p:blipFill>
          <a:blip r:embed="rId1"/>
          <a:stretch/>
        </p:blipFill>
        <p:spPr>
          <a:xfrm>
            <a:off x="1932120" y="1916280"/>
            <a:ext cx="52797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ff"/>
                </a:solidFill>
                <a:latin typeface="Times New Roman"/>
              </a:rPr>
              <a:t>Eye contact and social smile</a:t>
            </a:r>
            <a:br>
              <a:rPr sz="2400"/>
            </a:b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are important to the baby and the parents (vide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696600" y="5732640"/>
            <a:ext cx="343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imes New Roman"/>
              </a:rPr>
              <a:t>Insufficient accommodatio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imes New Roman"/>
              </a:rPr>
              <a:t>Mirror neuron system problem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160560" y="2133720"/>
            <a:ext cx="86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imes New Roman"/>
              </a:rPr>
              <a:t>If a 4-month-old baby refuses visual communication, suspicion on infantile autism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4726080" y="2637000"/>
            <a:ext cx="419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imes New Roman"/>
              </a:rPr>
              <a:t>Refraction and accommodation shou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imes New Roman"/>
              </a:rPr>
              <a:t>be measured and near correction giv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1a_NoSound.wmv" descr=""/>
          <p:cNvPicPr/>
          <p:nvPr/>
        </p:nvPicPr>
        <p:blipFill>
          <a:blip r:embed="rId1"/>
          <a:stretch/>
        </p:blipFill>
        <p:spPr>
          <a:xfrm>
            <a:off x="324000" y="261936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65" name="1b_NoSound.wmv" descr=""/>
          <p:cNvPicPr/>
          <p:nvPr/>
        </p:nvPicPr>
        <p:blipFill>
          <a:blip r:embed="rId2"/>
          <a:stretch/>
        </p:blipFill>
        <p:spPr>
          <a:xfrm>
            <a:off x="4811760" y="3446640"/>
            <a:ext cx="400824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diagnosis of “autistic behaviours” is dangerous because once reported, it leads to misinterpretation of all atypical strategies as “autisitic” and the infant/ child will not be referred to a thorough clinical and functional assessment. Sometimes even when referred, the child is not thoroughly assessed because the child’s communication is misunderstood by doctors not seeing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the strategies of blin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6T10:30:58Z</dcterms:created>
  <dc:creator>Lea Hyvärinen</dc:creator>
  <dc:description/>
  <dc:language>en-US</dc:language>
  <cp:lastModifiedBy>Mediakimuli</cp:lastModifiedBy>
  <dcterms:modified xsi:type="dcterms:W3CDTF">2013-11-11T18:02:50Z</dcterms:modified>
  <cp:revision>306</cp:revision>
  <dc:subject/>
  <dc:title>PowerPoint Presentation</dc:title>
</cp:coreProperties>
</file>